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42FC-76DC-4D42-B84F-A78CE57D36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6E1F-F1C1-4B9D-A857-617EB07802D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AC0E-E455-42FD-ADEC-990C20B1A29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box on page 5</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1BCC-7FBC-48E2-8432-85E28D50FE9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CAB4-9972-4243-8037-DAB0A91304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CF7A0-0C96-4DA5-A29F-F72C973FF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A3210-20E4-4270-8B4C-C11657689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3D785-366A-4AF3-82A0-6EB23748E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68A87-47E7-4B81-9BE4-1F401C1EA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68C1E-B4CA-4AD3-87A9-D9DE5C7DC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C3E9B-C667-4C95-B933-890DEA997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910E4-93AA-4AF1-80C3-CF37595A2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8C0D9-EC44-47D7-9B7B-5229EEA98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E2C1C-37C7-4D46-88C6-8ECFA7C05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FB187-6F5A-4964-9998-52111B93C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0464C-DAD6-45E9-87C0-1E8A8674B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26564-5A36-4888-A800-F482554B8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123160" y="297180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Chapter</a:t>
            </a:r>
            <a:endParaRPr b="0" lang="en-US" sz="2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5"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3" name="Picture 8" descr="Pearson_Bound_White"/>
          <p:cNvPicPr/>
          <p:nvPr/>
        </p:nvPicPr>
        <p:blipFill>
          <a:blip r:embed="rId2"/>
          <a:stretch/>
        </p:blipFill>
        <p:spPr>
          <a:xfrm>
            <a:off x="7621560" y="6400800"/>
            <a:ext cx="1533600" cy="457200"/>
          </a:xfrm>
          <a:prstGeom prst="rect">
            <a:avLst/>
          </a:prstGeom>
          <a:ln w="0">
            <a:noFill/>
          </a:ln>
        </p:spPr>
      </p:pic>
      <p:pic>
        <p:nvPicPr>
          <p:cNvPr id="94" name="Picture 9" descr="Pearson_Strap_Bound_White"/>
          <p:cNvPicPr/>
          <p:nvPr/>
        </p:nvPicPr>
        <p:blipFill>
          <a:blip r:embed="rId3"/>
          <a:stretch/>
        </p:blipFill>
        <p:spPr>
          <a:xfrm>
            <a:off x="-3240" y="6400800"/>
            <a:ext cx="1766880" cy="457200"/>
          </a:xfrm>
          <a:prstGeom prst="rect">
            <a:avLst/>
          </a:prstGeom>
          <a:ln w="0">
            <a:noFill/>
          </a:ln>
        </p:spPr>
      </p:pic>
      <p:sp>
        <p:nvSpPr>
          <p:cNvPr id="9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9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8"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9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0"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FC2C-162C-4071-8782-740588F74CD8}"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6"/>
          <p:cNvSpPr/>
          <p:nvPr/>
        </p:nvSpPr>
        <p:spPr>
          <a:xfrm>
            <a:off x="6766200" y="2558880"/>
            <a:ext cx="11408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12</a:t>
            </a:r>
            <a:endParaRPr b="0" lang="en-US" sz="6600" spc="-1" strike="noStrike">
              <a:solidFill>
                <a:srgbClr val="000000"/>
              </a:solidFill>
              <a:latin typeface="Arial"/>
            </a:endParaRPr>
          </a:p>
        </p:txBody>
      </p:sp>
      <p:sp>
        <p:nvSpPr>
          <p:cNvPr id="147" name="TextBox 1"/>
          <p:cNvSpPr/>
          <p:nvPr/>
        </p:nvSpPr>
        <p:spPr>
          <a:xfrm>
            <a:off x="4952880" y="4038480"/>
            <a:ext cx="373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lking and Homicid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Love Obsessional Stalkers</a:t>
            </a:r>
            <a:endParaRPr b="0" lang="en-US" sz="4000" spc="-1" strike="noStrike">
              <a:solidFill>
                <a:srgbClr val="ffffff"/>
              </a:solidFill>
              <a:latin typeface="Verdana"/>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lkers in this group develop a love obsession or fixation, generally targeting celebrities and politician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no personal relationship between the victim and offender; therefore, the target might also be a casual acquaintanc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stalkers tend to be persistent in their pursuit of their victim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fantasize about the victim being their love partner and may go to drastic means to get attention. </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Love Obsessional Stalkers</a:t>
            </a:r>
            <a:endParaRPr b="0" lang="en-US" sz="4000" spc="-1" strike="noStrike">
              <a:solidFill>
                <a:srgbClr val="ffffff"/>
              </a:solidFill>
              <a:latin typeface="Verdana"/>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bizarre attempts may be lethal to the victim because the stalker does not care whether the attention is negative or positiv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ve obsessional stalkers do not believe their targets love them.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y believe that they are destined to be with their victims and only need to try harder to convince them.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stalkers often invent detailed fantasies of nonexistent relationship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rotomania</a:t>
            </a:r>
            <a:endParaRPr b="0" lang="en-US" sz="4000" spc="-1" strike="noStrike">
              <a:solidFill>
                <a:srgbClr val="ffffff"/>
              </a:solidFill>
              <a:latin typeface="Verdana"/>
            </a:endParaRPr>
          </a:p>
        </p:txBody>
      </p:sp>
      <p:sp>
        <p:nvSpPr>
          <p:cNvPr id="169"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rm is usually associated with a stalker who has severe mental problems, including delusion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erpetrator may actually believe the victim knows and loves him or her.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stalkers expect the target to play the role the stalker has determined, and when threats or intimidation do not work, they may resort to violenc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type of stalker may continue to pursue the victim for long periods of time, up to eight or ten years.</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engeance and Terrorist Stalkers</a:t>
            </a:r>
            <a:endParaRPr b="0" lang="en-US" sz="4000" spc="-1" strike="noStrike">
              <a:solidFill>
                <a:srgbClr val="ffffff"/>
              </a:solidFill>
              <a:latin typeface="Verdana"/>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ngeance and terrorist stalkers seek to change the behavior of their victims without intending to have a personal relationship with the victim.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lkers seek to punish their victims for some wrong they perceive the victim has done to them.</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typified by the person who stalks an employer after being fired.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rrorist stalker has a political agenda and uses the threat of force to keep the target from engaging in a particular activity. </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talking Laws</a:t>
            </a:r>
            <a:endParaRPr b="0" lang="en-US" sz="4000" spc="-1" strike="noStrike">
              <a:solidFill>
                <a:srgbClr val="ffffff"/>
              </a:solidFill>
              <a:latin typeface="Verdana"/>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lking is a fairly new criminal offense and the laws can be confusing.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tistalking laws exist in all 50 states.</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oadly written statutes in some states have caused difficulty for criminal justice implementation and resulted in constitutional challenges.</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states require that the perpetrator make a credible threat of violence.</a:t>
            </a:r>
            <a:endParaRPr b="0" lang="en-US" sz="28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yberstalking</a:t>
            </a:r>
            <a:endParaRPr b="0" lang="en-US" sz="4000" spc="-1" strike="noStrike">
              <a:solidFill>
                <a:srgbClr val="ffffff"/>
              </a:solidFill>
              <a:latin typeface="Verdana"/>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omprehensive federal law that addresses all of the issues concerning cyberstalking and cyberharassment does not exist.</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tections are found piecemeal in different law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ack of comprehensive legislation leaves a number of gaps in protection.</a:t>
            </a:r>
            <a:endParaRPr b="0" lang="en-US" sz="26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yberstalking behaviors that do not include an actual threat are typically referred to as cyberharassment</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talking Investigative Strategies</a:t>
            </a:r>
            <a:endParaRPr b="0" lang="en-US" sz="4000" spc="-1" strike="noStrike">
              <a:solidFill>
                <a:srgbClr val="ffffff"/>
              </a:solidFill>
              <a:latin typeface="Verdana"/>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essing the victim’s credibility</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mplished by observing the conduct of the victim during the investigation</a:t>
            </a:r>
            <a:endParaRPr b="0" lang="en-US" sz="2400" spc="-1" strike="noStrike">
              <a:solidFill>
                <a:srgbClr val="000000"/>
              </a:solidFill>
              <a:latin typeface="Verdana"/>
            </a:endParaRPr>
          </a:p>
          <a:p>
            <a:pPr lvl="1" marL="743040" indent="-285840">
              <a:spcBef>
                <a:spcPts val="2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lse Victimization Syndrom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mall percentage of crimes reported appear to be false allegations</a:t>
            </a:r>
            <a:endParaRPr b="0" lang="en-US" sz="2400" spc="-1" strike="noStrike">
              <a:solidFill>
                <a:srgbClr val="000000"/>
              </a:solidFill>
              <a:latin typeface="Verdana"/>
            </a:endParaRPr>
          </a:p>
          <a:p>
            <a:pPr lvl="1" marL="743040" indent="-285840">
              <a:spcBef>
                <a:spcPts val="2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essing the offender’s conduct</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stigating to determine whether the victim’s perception of a threat is accurate</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talking Investigative Strategies</a:t>
            </a:r>
            <a:endParaRPr b="0" lang="en-US" sz="4000" spc="-1" strike="noStrike">
              <a:solidFill>
                <a:srgbClr val="ffffff"/>
              </a:solidFill>
              <a:latin typeface="Verdana"/>
            </a:endParaRPr>
          </a:p>
        </p:txBody>
      </p:sp>
      <p:sp>
        <p:nvSpPr>
          <p:cNvPr id="179" name=""/>
          <p:cNvSpPr txBox="1"/>
          <p:nvPr/>
        </p:nvSpPr>
        <p:spPr>
          <a:xfrm>
            <a:off x="457200" y="1371600"/>
            <a:ext cx="8229600" cy="4648320"/>
          </a:xfrm>
          <a:prstGeom prst="rect">
            <a:avLst/>
          </a:prstGeom>
          <a:noFill/>
          <a:ln w="0">
            <a:noFill/>
          </a:ln>
        </p:spPr>
        <p:txBody>
          <a:bodyPr anchor="t">
            <a:normAutofit fontScale="98000"/>
          </a:bodyPr>
          <a:p>
            <a:pPr marL="335880" indent="-3358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erviewing third parties </a:t>
            </a:r>
            <a:endParaRPr b="0" lang="en-US" sz="26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lking to family members of the victim, neighbors, and coworkers to assess the level of danger that may exist</a:t>
            </a:r>
            <a:endParaRPr b="0" lang="en-US" sz="2400" spc="-1" strike="noStrike">
              <a:solidFill>
                <a:srgbClr val="000000"/>
              </a:solidFill>
              <a:latin typeface="Verdana"/>
            </a:endParaRPr>
          </a:p>
          <a:p>
            <a:pPr lvl="1" marL="727920" indent="-280080">
              <a:spcBef>
                <a:spcPts val="2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5880" indent="-3358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idering circumstantial evidence </a:t>
            </a:r>
            <a:endParaRPr b="0" lang="en-US" sz="26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thing can be considered circumstantial evidence</a:t>
            </a:r>
            <a:endParaRPr b="0" lang="en-US" sz="2400" spc="-1" strike="noStrike">
              <a:solidFill>
                <a:srgbClr val="000000"/>
              </a:solidFill>
              <a:latin typeface="Verdana"/>
            </a:endParaRPr>
          </a:p>
          <a:p>
            <a:pPr lvl="1" marL="727920" indent="-280080">
              <a:spcBef>
                <a:spcPts val="2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5880" indent="-3358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isting the victim in obtaining a restraining or no-contact order </a:t>
            </a:r>
            <a:endParaRPr b="0" lang="en-US" sz="26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ictim should be directed to obtain a restraining or no-contact order, if possible</a:t>
            </a:r>
            <a:endParaRPr b="0" lang="en-US" sz="24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ategories of Homicide</a:t>
            </a:r>
            <a:endParaRPr b="0" lang="en-US" sz="4000" spc="-1" strike="noStrike">
              <a:solidFill>
                <a:srgbClr val="ffffff"/>
              </a:solidFill>
              <a:latin typeface="Verdana"/>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ustifiable homicid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lling without evil or criminal intent, for which there can be no blame, such as that done in self-defense to protect oneself or to protect another, or shooting by a law enforcement officer in fulfilling his or her duty</a:t>
            </a:r>
            <a:endParaRPr b="0" lang="en-US" sz="2400" spc="-1" strike="noStrike">
              <a:solidFill>
                <a:srgbClr val="000000"/>
              </a:solidFill>
              <a:latin typeface="Verdana"/>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usable homicid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homicide committed accidentally or with sufficient provocation while doing some lawful activity</a:t>
            </a: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ategories of Homicide</a:t>
            </a:r>
            <a:endParaRPr b="0" lang="en-US" sz="4000" spc="-1" strike="noStrike">
              <a:solidFill>
                <a:srgbClr val="ffffff"/>
              </a:solidFill>
              <a:latin typeface="Verdana"/>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ttered Women’s Syndrom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xcusable defense when the continuum of violence in battering relationships excuses the woman who kills her intimate assailant</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mency</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ower of an executive to intervene in the sentencing of a criminal defendant to prevent injustice from occurring</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lief imparted after the justice system has run its course</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9"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 forms of stalking behavior and common stalking offender characteristics.</a:t>
            </a:r>
            <a:endParaRPr b="0" lang="en-US" sz="2800" spc="-1" strike="noStrike">
              <a:solidFill>
                <a:srgbClr val="000000"/>
              </a:solidFill>
              <a:latin typeface="Verdana"/>
            </a:endParaRPr>
          </a:p>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t stalking crimes in the context of the issuance of protection orders.</a:t>
            </a:r>
            <a:endParaRPr b="0" lang="en-US" sz="2800" spc="-1" strike="noStrike">
              <a:solidFill>
                <a:srgbClr val="000000"/>
              </a:solidFill>
              <a:latin typeface="Verdana"/>
            </a:endParaRPr>
          </a:p>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 the legal categories of homicide in relation to intimate partner violence.</a:t>
            </a:r>
            <a:endParaRPr b="0" lang="en-US" sz="2800" spc="-1" strike="noStrike">
              <a:solidFill>
                <a:srgbClr val="000000"/>
              </a:solidFill>
              <a:latin typeface="Verdana"/>
            </a:endParaRPr>
          </a:p>
          <a:p>
            <a:pPr marL="514440" indent="-514440">
              <a:spcBef>
                <a:spcPts val="700"/>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 the relevance of the circle of death for homicide investigators.</a:t>
            </a:r>
            <a:endParaRPr b="0" lang="en-US" sz="28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ategories Of Homicide</a:t>
            </a:r>
            <a:endParaRPr b="0" lang="en-US" sz="4000" spc="-1" strike="noStrike">
              <a:solidFill>
                <a:srgbClr val="ffffff"/>
              </a:solidFill>
              <a:latin typeface="Verdana"/>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lonious homicid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rongful killing of a human being is criminal behavior</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rder, manslaughter, or negligent homicides are categories of death with varying degrees of culpabilit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states provide different degrees of culpability that are designated by the criminal statute itself, often referred to as nonnegligent homicide</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imate Partner Homicide</a:t>
            </a:r>
            <a:endParaRPr b="0" lang="en-US" sz="4000" spc="-1" strike="noStrike">
              <a:solidFill>
                <a:srgbClr val="ffffff"/>
              </a:solidFill>
              <a:latin typeface="Verdana"/>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imate partner homicid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killing of a spouse, ex-spouse, boyfriend, or girlfriend</a:t>
            </a:r>
            <a:endParaRPr b="0" lang="en-US" sz="2400" spc="-1" strike="noStrike">
              <a:solidFill>
                <a:srgbClr val="000000"/>
              </a:solidFill>
              <a:latin typeface="Verdana"/>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cide</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killing of a woman by her relative, friend, or lover</a:t>
            </a:r>
            <a:endParaRPr b="0" lang="en-US" sz="2400" spc="-1" strike="noStrike">
              <a:solidFill>
                <a:srgbClr val="000000"/>
              </a:solidFill>
              <a:latin typeface="Verdana"/>
            </a:endParaRPr>
          </a:p>
          <a:p>
            <a:pPr lvl="1" marL="743040" indent="-285840">
              <a:spcBef>
                <a:spcPts val="2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imate partner homicide victims make up approximately 11% of all murders nationwide.</a:t>
            </a:r>
            <a:endParaRPr b="0" lang="en-US" sz="26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x, J., &amp; Zawitz, M. (2007). Homicide trends in the United States. Retrieved from </a:t>
            </a: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ttp://bjs.gov/index. cfm?ty=pbdetail&amp;iid=966</a:t>
            </a:r>
            <a:endParaRPr b="0" lang="en-US" sz="10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Suicide</a:t>
            </a:r>
            <a:endParaRPr b="0" lang="en-US" sz="4000" spc="-1" strike="noStrike">
              <a:solidFill>
                <a:srgbClr val="ffffff"/>
              </a:solidFill>
              <a:latin typeface="Verdana"/>
            </a:endParaRPr>
          </a:p>
        </p:txBody>
      </p:sp>
      <p:sp>
        <p:nvSpPr>
          <p:cNvPr id="18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il recently, the U.S. did not have a system capable of tracking homicide-suicide events. </a:t>
            </a:r>
            <a:endParaRPr b="0" lang="en-US" sz="2400" spc="-1" strike="noStrike">
              <a:solidFill>
                <a:srgbClr val="000000"/>
              </a:solidFill>
              <a:latin typeface="Verdana"/>
            </a:endParaRPr>
          </a:p>
          <a:p>
            <a:pPr marL="339480" indent="-3394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ational Violent Death Reporting System (NVDRS) was established to fill that need.</a:t>
            </a:r>
            <a:endParaRPr b="0" lang="en-US" sz="2400" spc="-1" strike="noStrike">
              <a:solidFill>
                <a:srgbClr val="000000"/>
              </a:solidFill>
              <a:latin typeface="Verdana"/>
            </a:endParaRPr>
          </a:p>
          <a:p>
            <a:pPr marL="339480" indent="-3394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jority of homicide-suicides occur within intimate partner relationships. </a:t>
            </a:r>
            <a:endParaRPr b="0" lang="en-US" sz="2400" spc="-1" strike="noStrike">
              <a:solidFill>
                <a:srgbClr val="000000"/>
              </a:solidFill>
              <a:latin typeface="Verdana"/>
            </a:endParaRPr>
          </a:p>
          <a:p>
            <a:pPr marL="339480" indent="-3394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ximately 2% of all homicides in the U.S. are classified as cases of murder-suicide.</a:t>
            </a:r>
            <a:endParaRPr b="0" lang="en-US" sz="24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Barber, C., Azrael, D., Hemenway, D., Olson, L., Nie, C., </a:t>
            </a:r>
            <a:r>
              <a:rPr b="0" lang="en-US" sz="1000" spc="-1" strike="noStrike">
                <a:solidFill>
                  <a:srgbClr val="000000"/>
                </a:solidFill>
                <a:latin typeface="Verdana"/>
              </a:rPr>
              <a:t>Schaechter, J., &amp; Walsh, S. (2008). Suicides and suicide attempts following homicide: Victim–suspect relationship, weapon, type, and presence of antidepressant. </a:t>
            </a:r>
            <a:r>
              <a:rPr b="0" i="1" lang="en-US" sz="1000" spc="-1" strike="noStrike">
                <a:solidFill>
                  <a:srgbClr val="000000"/>
                </a:solidFill>
                <a:latin typeface="Verdana"/>
              </a:rPr>
              <a:t>Homicide Studies, 12 </a:t>
            </a:r>
            <a:r>
              <a:rPr b="0" lang="en-US" sz="1000" spc="-1" strike="noStrike">
                <a:solidFill>
                  <a:srgbClr val="000000"/>
                </a:solidFill>
                <a:latin typeface="Verdana"/>
              </a:rPr>
              <a:t>(3), 285–297.</a:t>
            </a:r>
            <a:endParaRPr b="0" lang="en-US" sz="10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Suicide</a:t>
            </a:r>
            <a:endParaRPr b="0" lang="en-US" sz="4000" spc="-1" strike="noStrike">
              <a:solidFill>
                <a:srgbClr val="ffffff"/>
              </a:solidFill>
              <a:latin typeface="Verdana"/>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ually the husband kills his wife or intimate partner, and within minutes or hours commits suicide. </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petrators were twice as likely to have a current or former spousal relationship.</a:t>
            </a:r>
            <a:endParaRPr b="0" lang="en-US" sz="24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oting is the most frequent method of killing. </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of the deaths were preceded by breakups initiated by the victim, jealousy, or arguments.</a:t>
            </a:r>
            <a:endParaRPr b="0" lang="en-US" sz="24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Barber, C., Azrael, D., Hemenway, D., Olson, L., Nie, C., </a:t>
            </a:r>
            <a:r>
              <a:rPr b="0" lang="en-US" sz="1000" spc="-1" strike="noStrike">
                <a:solidFill>
                  <a:srgbClr val="000000"/>
                </a:solidFill>
                <a:latin typeface="Verdana"/>
              </a:rPr>
              <a:t>Schaechter, J., &amp; Walsh, S. (2008). Suicides and suicide attempts following homicide: Victim–suspect relationship, weapon, type, and presence of antidepressant. </a:t>
            </a:r>
            <a:r>
              <a:rPr b="0" i="1" lang="en-US" sz="1000" spc="-1" strike="noStrike">
                <a:solidFill>
                  <a:srgbClr val="000000"/>
                </a:solidFill>
                <a:latin typeface="Verdana"/>
              </a:rPr>
              <a:t>Homicide Studies, 12 </a:t>
            </a:r>
            <a:r>
              <a:rPr b="0" lang="en-US" sz="1000" spc="-1" strike="noStrike">
                <a:solidFill>
                  <a:srgbClr val="000000"/>
                </a:solidFill>
                <a:latin typeface="Verdana"/>
              </a:rPr>
              <a:t>(3), 285–297.</a:t>
            </a:r>
            <a:endParaRPr b="0" lang="en-US" sz="1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ay and Lesbian Partner Homicide</a:t>
            </a:r>
            <a:endParaRPr b="0" lang="en-US" sz="4000" spc="-1" strike="noStrike">
              <a:solidFill>
                <a:srgbClr val="ffffff"/>
              </a:solidFill>
              <a:latin typeface="Verdana"/>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umber of homicides committed by same-sex intimate partners is unknown.</a:t>
            </a:r>
            <a:endParaRPr b="0" lang="en-US" sz="28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ationship information is typically not included for these cases. </a:t>
            </a:r>
            <a:endParaRPr b="0" lang="en-US" sz="28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V within gay and lesbian communities mirrors intimate partner violence in the heterosexual community.</a:t>
            </a:r>
            <a:endParaRPr b="0" lang="en-US" sz="2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 in Later Life</a:t>
            </a:r>
            <a:endParaRPr b="0" lang="en-US" sz="4000" spc="-1" strike="noStrike">
              <a:solidFill>
                <a:srgbClr val="ffffff"/>
              </a:solidFill>
              <a:latin typeface="Verdana"/>
            </a:endParaRPr>
          </a:p>
        </p:txBody>
      </p:sp>
      <p:sp>
        <p:nvSpPr>
          <p:cNvPr id="19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ouse of the person over age 80 is the perpetrator in almost 40% of cases.</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arms, intentional neglect, poisoning, suffocation, and the use of blunt instruments are common mechanisms of injury for the homicide of older adults.</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micide by a caretaker is evidenced by different types of incidents and motivations, including financial gain and drug use. </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ly, the deaths occur in the victim’s home.</a:t>
            </a:r>
            <a:endParaRPr b="0" lang="en-US" sz="24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arch, D., &amp; Nunn, K. C. (2011). Characteristics of elderly and other vulnerable adult victims of homicide by a caregiver:</a:t>
            </a: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ational Violent Death Reporting System—17 U.S. states, 2003–2007. </a:t>
            </a:r>
            <a:r>
              <a:rPr b="0" i="1" lang="en-US" sz="1000" spc="-1" strike="noStrike">
                <a:solidFill>
                  <a:srgbClr val="000000"/>
                </a:solidFill>
                <a:latin typeface="Verdana"/>
              </a:rPr>
              <a:t>Journal of Interpersonal Violence, 26 </a:t>
            </a:r>
            <a:r>
              <a:rPr b="0" lang="en-US" sz="1000" spc="-1" strike="noStrike">
                <a:solidFill>
                  <a:srgbClr val="000000"/>
                </a:solidFill>
                <a:latin typeface="Verdana"/>
              </a:rPr>
              <a:t>(1), 137–157.</a:t>
            </a:r>
            <a:endParaRPr b="0" lang="en-US" sz="1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 Investigative Strategies</a:t>
            </a:r>
            <a:endParaRPr b="0" lang="en-US" sz="4000" spc="-1" strike="noStrike">
              <a:solidFill>
                <a:srgbClr val="ffffff"/>
              </a:solidFill>
              <a:latin typeface="Verdana"/>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ination of the area immediately surrounding the body begins the proces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ues within the circle of death aid in the primary step of determining whether the death is due to homicide, suicide, or attributable to natural cause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out obvious signs of a theft, gang, or drug-related murder, the investigator looks from the intimate relations outward toward the stranger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llection of evidence also begins within the circle and moves outward. </a:t>
            </a:r>
            <a:endParaRPr b="0" lang="en-US" sz="2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 Investigative Strategies</a:t>
            </a:r>
            <a:endParaRPr b="0" lang="en-US" sz="4000" spc="-1" strike="noStrike">
              <a:solidFill>
                <a:srgbClr val="ffffff"/>
              </a:solidFill>
              <a:latin typeface="Verdana"/>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police departments employ specialists who are called immediately to work on evidence collection.</a:t>
            </a:r>
            <a:endParaRPr b="0" lang="en-US" sz="28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departments train their own police officers to do this step. </a:t>
            </a:r>
            <a:endParaRPr b="0" lang="en-US" sz="28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nsic specialists are called by the police based on the severity of the crime, the apparent signs of the cause of death, and the policy in the jurisdiction of the crime.</a:t>
            </a:r>
            <a:endParaRPr b="0" lang="en-US" sz="28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 Investigative Strategies</a:t>
            </a:r>
            <a:endParaRPr b="0" lang="en-US" sz="4000" spc="-1" strike="noStrike">
              <a:solidFill>
                <a:srgbClr val="ffffff"/>
              </a:solidFill>
              <a:latin typeface="Verdana"/>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ts in ballistics, hair and fiber analysis, DNA analysis, fingerprint analysis, and photography are among the more common forensic specialists involved in the initial murder investigation.</a:t>
            </a:r>
            <a:endParaRPr b="0" lang="en-US" sz="2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s may be called in to assist the primary investigators as more is learned about the death.</a:t>
            </a:r>
            <a:endParaRPr b="0" lang="en-US" sz="28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omicide Investigative Strategies</a:t>
            </a:r>
            <a:endParaRPr b="0" lang="en-US" sz="4000" spc="-1" strike="noStrike">
              <a:solidFill>
                <a:srgbClr val="ffffff"/>
              </a:solidFill>
              <a:latin typeface="Verdana"/>
            </a:endParaRPr>
          </a:p>
        </p:txBody>
      </p:sp>
      <p:sp>
        <p:nvSpPr>
          <p:cNvPr id="203" name=""/>
          <p:cNvSpPr txBox="1"/>
          <p:nvPr/>
        </p:nvSpPr>
        <p:spPr>
          <a:xfrm>
            <a:off x="456840" y="1599840"/>
            <a:ext cx="8458200" cy="4724280"/>
          </a:xfrm>
          <a:prstGeom prst="rect">
            <a:avLst/>
          </a:prstGeom>
          <a:noFill/>
          <a:ln w="0">
            <a:noFill/>
          </a:ln>
        </p:spPr>
        <p:txBody>
          <a:bodyPr anchor="t">
            <a:normAutofit fontScale="98000"/>
          </a:bodyPr>
          <a:p>
            <a:pPr marL="335880" indent="-3358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ath review teams</a:t>
            </a:r>
            <a:endParaRPr b="0" lang="en-US" sz="26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 resources and information in the forensic investigation of child fatalities. </a:t>
            </a:r>
            <a:endParaRPr b="0" lang="en-US" sz="24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child death review teams in all 50 states, Australia, and Canada. </a:t>
            </a:r>
            <a:endParaRPr b="0" lang="en-US" sz="24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child deaths from various causes, often with an emphasis on reviewing child deaths involving caretaker abuse and or neglect.</a:t>
            </a:r>
            <a:endParaRPr b="0" lang="en-US" sz="2400" spc="-1" strike="noStrike">
              <a:solidFill>
                <a:srgbClr val="000000"/>
              </a:solidFill>
              <a:latin typeface="Verdana"/>
            </a:endParaRPr>
          </a:p>
          <a:p>
            <a:pPr lvl="1" marL="727920" indent="-28008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 members include coroners, medical examiners, mental health professionals, law enforcement personnel, and prosecutors, based on the needs of the particular locality.</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roduction</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lking</a:t>
            </a:r>
            <a:r>
              <a:rPr b="1"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ttern of repeated and unwanted attention, harassment, contact, or any other course of conduct directed at a specific person that would cause a reasonable person to feel fear.</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micide</a:t>
            </a:r>
            <a:r>
              <a:rPr b="1"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defined as the killing of a human being by the act, procurement, or omission of another human being.</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What Is Stalking?</a:t>
            </a:r>
            <a:endParaRPr b="0" lang="en-US" sz="4000" spc="-1" strike="noStrike">
              <a:solidFill>
                <a:srgbClr val="ffffff"/>
              </a:solidFill>
              <a:latin typeface="Verdana"/>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lking is a pattern of behavior that is intended to cause harm or to instill fear in a person. </a:t>
            </a:r>
            <a:endParaRPr b="0" lang="en-US" sz="2400" spc="-1" strike="noStrike">
              <a:solidFill>
                <a:srgbClr val="000000"/>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llowing or harassing someone typically characterizes the offense. </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different from the majority of crimes because it consists of a series of actions rather than a single act. </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events are considered individually, they may not constitute illegal behavior.</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talking Behaviors</a:t>
            </a:r>
            <a:endParaRPr b="0" lang="en-US" sz="4000" spc="-1" strike="noStrike">
              <a:solidFill>
                <a:srgbClr val="ffffff"/>
              </a:solidFill>
              <a:latin typeface="Verdana"/>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enders routinely attempt to intimidate and control their victims.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attempt to scare their targets.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s may have a fanaticized love interest.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gnificant factor is the stalker’s desire to keep the victim within a personal relationship, since more than half of stalkers begin before the intimate relationship has actually ended.</a:t>
            </a: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talking Behaviors</a:t>
            </a:r>
            <a:endParaRPr b="0" lang="en-US" sz="4000" spc="-1" strike="noStrike">
              <a:solidFill>
                <a:srgbClr val="ffffff"/>
              </a:solidFill>
              <a:latin typeface="Verdana"/>
            </a:endParaRPr>
          </a:p>
        </p:txBody>
      </p:sp>
      <p:sp>
        <p:nvSpPr>
          <p:cNvPr id="157" name=""/>
          <p:cNvSpPr txBox="1"/>
          <p:nvPr/>
        </p:nvSpPr>
        <p:spPr>
          <a:xfrm>
            <a:off x="457200" y="1600200"/>
            <a:ext cx="8229600" cy="46483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re is no template for the actions of a stalker.</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most consistent indicator of violence is threats and a previous intimate relationship between the victim and the offender. </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bstance abuse history is predictive of an increased rate of violence among stalking offender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on elements in the crime of stalking include following the victims, harassing them, and threatening them.</a:t>
            </a:r>
            <a:endParaRPr b="0" lang="en-US" sz="2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ictims of Stalking</a:t>
            </a:r>
            <a:endParaRPr b="0" lang="en-US" sz="4000" spc="-1" strike="noStrike">
              <a:solidFill>
                <a:srgbClr val="ffffff"/>
              </a:solidFill>
              <a:latin typeface="Verdana"/>
            </a:endParaRPr>
          </a:p>
        </p:txBody>
      </p:sp>
      <p:sp>
        <p:nvSpPr>
          <p:cNvPr id="15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one, male or female, can become the victim of a stalker. </a:t>
            </a:r>
            <a:endParaRPr b="0" lang="en-US" sz="24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erson targeted has not done anything to provoke the behavior of the offender. </a:t>
            </a:r>
            <a:endParaRPr b="0" lang="en-US" sz="24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ximately 1.5% of the population of persons ages 18 and older experience being stalked.</a:t>
            </a:r>
            <a:endParaRPr b="0" lang="en-US" sz="24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rimes often go undetected due to accompanying crimes that become the focus of police efforts.</a:t>
            </a:r>
            <a:endParaRPr b="0" lang="en-US" sz="24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talano, S. (2012). </a:t>
            </a:r>
            <a:r>
              <a:rPr b="0" i="1" lang="en-US" sz="1000" spc="-1" strike="noStrike">
                <a:solidFill>
                  <a:srgbClr val="000000"/>
                </a:solidFill>
                <a:latin typeface="Verdana"/>
              </a:rPr>
              <a:t>Stalking victims in the United States—Revised special report</a:t>
            </a:r>
            <a:r>
              <a:rPr b="0" lang="en-US" sz="1000" spc="-1" strike="noStrike">
                <a:solidFill>
                  <a:srgbClr val="000000"/>
                </a:solidFill>
                <a:latin typeface="Verdana"/>
              </a:rPr>
              <a:t>. Washington, DC: U.S. Department of Justice.</a:t>
            </a:r>
            <a:endParaRPr b="0" lang="en-US" sz="1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erpetrators of Stalking</a:t>
            </a:r>
            <a:endParaRPr b="0" lang="en-US" sz="4000" spc="-1" strike="noStrike">
              <a:solidFill>
                <a:srgbClr val="ffffff"/>
              </a:solidFill>
              <a:latin typeface="Verdana"/>
            </a:endParaRPr>
          </a:p>
        </p:txBody>
      </p:sp>
      <p:sp>
        <p:nvSpPr>
          <p:cNvPr id="161" name=""/>
          <p:cNvSpPr txBox="1"/>
          <p:nvPr/>
        </p:nvSpPr>
        <p:spPr>
          <a:xfrm>
            <a:off x="60948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gression is similar to what occurs in other forms of IPV.</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stalker is spurned, he or she may escalate the behavior to intimidatio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rare instances, the episodes of stalking become a persistent pattern of behavior that turns threatening and violent.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jority of stalkers are not mentally ill, although their behavior is not normal or appropriate. </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lationship or Simple Obsessional Stalkers</a:t>
            </a:r>
            <a:endParaRPr b="0" lang="en-US" sz="4000" spc="-1" strike="noStrike">
              <a:solidFill>
                <a:srgbClr val="ffffff"/>
              </a:solidFill>
              <a:latin typeface="Verdana"/>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st common and best known type of stalker is the relationship or simple obsessional stalker.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erpetrator and victim typically have a previous relationship that could include marriage, friendship, or that of coworker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stalkers in cases of intimate partner and dating relationships are simple obsessional stalker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obsession is the most likely category of stalking to result in murder.</a:t>
            </a:r>
            <a:endParaRPr b="0"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4:07:08Z</dcterms:modified>
  <cp:revision>128</cp:revision>
  <dc:subject/>
  <dc:title>Slide 1</dc:title>
</cp:coreProperties>
</file>